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8C7F-5053-4B8E-B59F-77407825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52C-F32F-48CC-9199-D0E331FA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C4AA-CE21-4073-902B-86358EF8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663A-0DAC-4A6B-A38E-2808D740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CB7-FC18-4FE2-97B8-3076541B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F4E0-9B72-4BC2-AEC2-4629AE63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D30-3BAE-4746-88C3-0973EA32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B72-666C-48B8-953B-6711BED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981B-7C65-4A9A-B801-3911A84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F06B-45CD-4124-97B4-BB7A3D2C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C9AD-02B2-44CA-BB5B-9B72463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6B86-2037-4582-B046-F250EA84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1AD6-1261-49B0-86D9-2BB3BF1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ECA-9396-4BAC-9796-658E5E0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7C30-9EC4-4CF8-9278-73ED776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3C1-277B-4936-8EFB-9C47A3BE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4AE6-1E46-4BA3-9F1E-3ACC029D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8BBF-31A4-4591-B861-A2B8318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EDA9-B966-447D-9DFC-C3A5457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2D78-CDF6-4D4B-AB9D-57E07C0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DD5B-AE9F-4D09-AF72-59BD269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1356-FA5A-45D5-8B7F-38FC934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A2BC-3F09-4D30-A235-7814D52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D466-095D-4FB6-A806-5F45C81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0D3-76CE-4E1B-A67A-38E15E7ED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06A-D7A5-4862-B0BA-EBB18275DC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29360" y="401760"/>
            <a:ext cx="339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Aliat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con azules tahalí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rvos alfanjes dora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i coronados de plu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bonetes african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no de lutos vest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traron de cuatro en cua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mal logrado Aliat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fligidos sold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gran empresa del Fénix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la bandera vol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enas lo trató el vien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27280" y="60480"/>
            <a:ext cx="3745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emiendo el fuego tal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a por señas de dolor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arre el suelo y deja el ca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rrastrando entre la se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l alférez va arrastran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alió el gallardo Alia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cien moriscos gallar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defensa de Mot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socorro de su her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aballo salió el mo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otro día desdich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negras andas le vuel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donde salió a cabal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340000" y="333360"/>
            <a:ext cx="352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balleros del maes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el camino encontrar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cubiertos de unas cañ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riosos le salte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iriéndole malam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rió Aliatar mal logr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os suyos, aunque ro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vencidos se torn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sólo le lloró Za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ero acompáñanla cu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Albaicín  a la Alham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eben de Genil y Dar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8280" y="546120"/>
            <a:ext cx="33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s damas  como a galá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valientes como a bra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lcaides como igu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plebeyos como a ampa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3:33:51Z</dcterms:created>
  <dc:creator> </dc:creator>
  <dc:description/>
  <dc:language>en-US</dc:language>
  <cp:lastModifiedBy> </cp:lastModifiedBy>
  <dcterms:modified xsi:type="dcterms:W3CDTF">2007-10-03T03:57:16Z</dcterms:modified>
  <cp:revision>7</cp:revision>
  <dc:subject/>
  <dc:title>Diapositiva 1</dc:title>
</cp:coreProperties>
</file>